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1AEE-6309-4473-A52E-3729F3553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F6CD-BAB7-49A9-9C32-6197EF323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4B93-4F8F-4C2E-8621-D82C85C6B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B72B-34C1-4A40-A658-816B99F29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2412-656E-4AD1-8879-AD9B23B42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C9F2-9643-4B2A-A746-2C8607FAC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AE30-8A48-429B-BDF3-AFAE7D0CE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9B6F-C023-4FAB-8C5F-D65C6F85F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3D7A-0A70-45D7-9541-DFA6E9060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5F11-DADB-456C-835E-00A4BB8B0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8641-C6CF-46D4-A484-65BA65D84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0ABA-A239-4862-98F9-8D6DD2EB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2BAD2-F8C1-4A4C-8B62-1A01DABAFB3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salbernagel.files.wordpress.com/2009/02/aladdin-03.jpg&amp;imgrefurl=http://salbernagel.wordpress.com/2009/02/15/aladdin/&amp;usg=__pGVAU5EHGxzYOVK7eK-Tpo6XNts=&amp;h=768&amp;w=1024&amp;sz=203&amp;hl=en&amp;start=6&amp;um=1&amp;itbs=1&amp;tbnid=l6mSkwTcRKFERM:&amp;tbnh=113&amp;tbnw=150&amp;prev=/images%3Fq%3Daladdin%26hl%3Den%26safe%3Dstrict%26sa%3DN%26um%3D1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disney-vacation-time.com/img/aladdin/aladdin-4.jpg&amp;imgrefurl=http://www.alimartell.com/index.php/2008/02/14/13-of-the-most-un-buyable-onscreen-couples/&amp;usg=__b0WcNI-ln-QVWGCFLkWzeBxoSdY=&amp;h=600&amp;w=800&amp;sz=100&amp;hl=en&amp;start=1&amp;um=1&amp;itbs=1&amp;tbnid=SkhAo8c225AXTM:&amp;tbnh=107&amp;tbnw=143&amp;prev=/images%3Fq%3Daladdin%26hl%3Den%26safe%3Dstrict%26sa%3DN%26um%3D1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google.com/imgres?imgurl=http://spiderdiaries.richmond.edu/nick13/files/2009/09/aladdin_jasmine.jpg&amp;imgrefurl=http://spiderdiaries.richmond.edu/nick13/category/on-u-of-r-experiences/&amp;usg=___ioYdE8v5tnspfCLz4J1wtSdF3k=&amp;h=278&amp;w=446&amp;sz=34&amp;hl=en&amp;start=14&amp;um=1&amp;itbs=1&amp;tbnid=QPyGcvN8u0OPsM:&amp;tbnh=79&amp;tbnw=127&amp;prev=/images%3Fq%3Daladdin%26hl%3Den%26safe%3Dstrict%26sa%3DN%26um%3D1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images.google.com/imgres?imgurl=http://home.online.no/~kaopsvik/aladdin/bilder/Aladdin.jpg&amp;imgrefurl=http://home.online.no/~kaopsvik/aladdin/Engelsk/aladdin.html&amp;usg=__Xww1bM7pt35hmqxPIZPJ449dueM=&amp;h=354&amp;w=276&amp;sz=16&amp;hl=en&amp;start=27&amp;um=1&amp;itbs=1&amp;tbnid=p8FqcgzGak2qOM:&amp;tbnh=121&amp;tbnw=94&amp;prev=/images%3Fq%3Daladdin%26ndsp%3D20%26hl%3Den%26safe%3Dstrict%26sa%3DN%26start%3D20%26um%3D1" TargetMode="External"/><Relationship Id="rId8" Type="http://schemas.openxmlformats.org/officeDocument/2006/relationships/image" Target="../media/image4.jpeg"/><Relationship Id="rId9" Type="http://schemas.openxmlformats.org/officeDocument/2006/relationships/hyperlink" Target="http://images.google.com/imgres?imgurl=http://icanhaspixiedust.wordpress.com/files/2008/12/aladdinjafar.jpg&amp;imgrefurl=http://icanhaspixiedust.com/category/characters-and-stars/aladdin/&amp;usg=__SvyJ7ESV9OaCAAJXBEdAzt1jTHM=&amp;h=378&amp;w=640&amp;sz=43&amp;hl=en&amp;start=29&amp;um=1&amp;itbs=1&amp;tbnid=WnjAz3CxXJO3lM:&amp;tbnh=81&amp;tbnw=137&amp;prev=/images%3Fq%3Daladdin%26ndsp%3D20%26hl%3Den%26safe%3Dstrict%26sa%3DN%26start%3D20%26um%3D1" TargetMode="External"/><Relationship Id="rId10" Type="http://schemas.openxmlformats.org/officeDocument/2006/relationships/image" Target="../media/image5.jpeg"/><Relationship Id="rId11" Type="http://schemas.openxmlformats.org/officeDocument/2006/relationships/hyperlink" Target="http://images.google.com/imgres?imgurl=http://www.heart-valve-surgery.com/Images/genie-aladdin.jpg&amp;imgrefurl=http://www.heart-valve-surgery.com/heart-surgery-blog/2007/11/29/patient-and-caregivers-dont-forget-to-ask-your-genie/&amp;usg=__X_E9ZVexYl7MeAKLeeGXBQEVMIc=&amp;h=472&amp;w=340&amp;sz=15&amp;hl=en&amp;start=32&amp;um=1&amp;itbs=1&amp;tbnid=Na_lwNkIvWm1DM:&amp;tbnh=129&amp;tbnw=93&amp;prev=/images%3Fq%3Daladdin%26ndsp%3D20%26hl%3Den%26safe%3Dstrict%26sa%3DN%26start%3D20%26um%3D1" TargetMode="External"/><Relationship Id="rId12" Type="http://schemas.openxmlformats.org/officeDocument/2006/relationships/image" Target="../media/image6.jpeg"/><Relationship Id="rId13" Type="http://schemas.openxmlformats.org/officeDocument/2006/relationships/hyperlink" Target="http://images.google.com/imgres?imgurl=http://alllayedout.com/Images/Animated_Glitter/graphics/aladdin.gif&amp;imgrefurl=http://alllayedout.com/Images/Animated_Glitter/&amp;usg=__Jkm5ef7-qFtZHsA7IWc_p13W8rQ=&amp;h=364&amp;w=400&amp;sz=43&amp;hl=en&amp;start=20&amp;um=1&amp;itbs=1&amp;tbnid=tg0ZC4a6Mv0aQM:&amp;tbnh=113&amp;tbnw=124&amp;prev=/images%3Fq%3Daladdin%26hl%3Den%26safe%3Dstrict%26sa%3DN%26um%3D1" TargetMode="External"/><Relationship Id="rId14" Type="http://schemas.openxmlformats.org/officeDocument/2006/relationships/image" Target="../media/image7.jpeg"/><Relationship Id="rId15" Type="http://schemas.openxmlformats.org/officeDocument/2006/relationships/image" Target="../media/image8.jpeg"/><Relationship Id="rId1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rabian Nigh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Rachel Gand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acter: Narra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2743200" cy="2514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952880"/>
            <a:ext cx="2743200" cy="1905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400800" y="0"/>
            <a:ext cx="2743200" cy="2511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743200" y="0"/>
            <a:ext cx="3657600" cy="25052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400800" y="4952880"/>
            <a:ext cx="2743200" cy="1905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743200" y="4952880"/>
            <a:ext cx="3657600" cy="1905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400800" y="2514600"/>
            <a:ext cx="2743200" cy="2438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5"/>
          <a:stretch/>
        </p:blipFill>
        <p:spPr>
          <a:xfrm>
            <a:off x="0" y="2514600"/>
            <a:ext cx="27637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5T17:09:17Z</dcterms:created>
  <dc:creator> </dc:creator>
  <dc:description/>
  <dc:language>en-US</dc:language>
  <cp:lastModifiedBy> </cp:lastModifiedBy>
  <dcterms:modified xsi:type="dcterms:W3CDTF">2010-02-05T17:18:18Z</dcterms:modified>
  <cp:revision>2</cp:revision>
  <dc:subject/>
  <dc:title>Arabian Nights</dc:title>
</cp:coreProperties>
</file>